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BDC4-281B-4B0A-A360-9A6FA0AAE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7315-9569-442B-91E8-091885ED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F628-CE1D-45A1-9837-CFB7FB372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2101-43E4-4BF6-A605-E4BE692F7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6DE47-BE00-409F-9A69-08888A91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9BC12-9F8F-43D7-B246-36D8AEF0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EEA34-DC61-4C06-98C8-3864D8FB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5FE37-2AE8-4E4E-97C7-337479ED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F38EE-5731-419A-A944-B9F8FF7E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2968F-3AD8-4158-96B0-DD33F588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69CB8-4550-4DD9-BEFF-E518175B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2E76-56BD-407F-AE28-FDB95798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636A3-C0D1-4CD8-A530-D9AB8A7B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D8790-9C5A-4E58-A5A4-5863BF94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23E23-0E88-4EA2-8373-92CFD9B0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98128-38A2-4112-814C-E06F32EA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B348F-4B0E-4E31-806E-B62633013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4978-BB32-4B2B-BF4C-EC5AB86C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E7F1-DDD2-4466-A5E2-1C9B1E6F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8AD9-A4E2-41BD-907D-A389DD83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E7C4-183D-4413-A8C0-8E13E517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478A-FE8A-4AD4-A065-81DC0A6B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DCDD-2C8B-42F0-9C5B-022BE8AB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9A57-0F33-4C16-A3ED-FC53EF72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D7C7-C4C6-4A4C-869C-E7F18F1F47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5A56-CFE6-49BE-AFC8-621B58F060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ir, We Would See Jesus”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Quarter 9, Lesson 18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240" y="3124080"/>
            <a:ext cx="62485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he Period of Retir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t. 8:19-22; 14:13 - 18:35; Mark 6:30 - 9:37; Luke 9:10-62; John 6:12 - 7: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ges 68-7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85F74-C883-4502-9645-EC1F0427D5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Jesus Feeds the 5,000 </a:t>
            </a:r>
            <a:br>
              <a:rPr sz="40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Mark 6:30-44; Matt. 14:13-21; Luke 9:10-17; John 6:1-15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looked to heaven, blessed the 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ostles distributed food until they were fu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elve full baskets of food was lefto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sponse of the people: “ This is truly the Prophet who is to come into the worl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sent His disciples across the s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withdrew to a mountain to pr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E9BE-41B9-44D0-B934-DC7502AA8E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ess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eding The 5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demonstrates His creative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is a rich provider of our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need to thank God daily for our temporal bless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should not be waste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BF6D-807C-478E-B575-527CA92B8A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Jesus Walks On The Water</a:t>
            </a:r>
            <a:br>
              <a:rPr sz="40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Mark 6:47-52; Matt. 14:24-33; John 6:16-21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ostles left in a boat without Jes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orm arose on the Sea of Galil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ostles were greatly dist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as the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atch of the night (3 to 6 a.m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appeared to them walking on the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terrified; thought it was a gh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2E5B-AA35-49C6-8B84-61143D909A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Jesus Walks On The Water</a:t>
            </a:r>
            <a:br>
              <a:rPr sz="40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Mark 6:47-52; Matt. 14:24-33; John 6:16-21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said: “Take courage; it is I; do not be afrai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ter answered: “Lord, if it is you, command me to come to you upon the wat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took a few steps and began to s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cried out, ”Lord save m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took his hand and said: ”O how little your faith is. Why did you doubt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8CA5-4D26-41C0-AD9D-5D4C63F5DC71}" type="slidenum">
              <a:t>13</a:t>
            </a:fld>
          </a:p>
        </p:txBody>
      </p:sp>
    </p:spTree>
  </p:cSld>
  <p:transition spd="med">
    <p:zoom dir="in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ess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lking On The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orms of life will 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strong in the faith - keep our focus on Jes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will hold up our hands - He will be there for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F1F1-17FE-44CE-9AE5-B652719FC2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Jesus At Gennesaret</a:t>
            </a:r>
            <a:br>
              <a:rPr sz="40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Mark 6:53-56; Matt. 14:34-36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reached the other side of Galil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wds gathered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brought their sick to be hea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just touched His garments and were hea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54CF-A340-4037-8AB3-A393C86BBDCD}" type="slidenum">
              <a:t>15</a:t>
            </a:fld>
          </a:p>
        </p:txBody>
      </p:sp>
    </p:spTree>
  </p:cSld>
  <p:transition spd="med">
    <p:zoom dir="in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Life of Chri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4724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s of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ning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Galilean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 of Ret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ing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st 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r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l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29400" y="3124080"/>
            <a:ext cx="236232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are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3429000"/>
            <a:ext cx="91440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4E2F-BCA8-4283-A9B2-D6AC99F9C878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Period of Retire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ut two years after He started His public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ted about 6 months – from the Passover feast (Spring) to Feast of Tabernacles (Fa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 recorded withdrawals from the pub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6D9E-26C3-4847-84C0-8A9A6AA37DF0}" type="slidenum">
              <a:t>3</a:t>
            </a:fld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asons For Retire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withdraw from the multitudes 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nt to remote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each apostles special less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get some 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pr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D47E-A187-44AC-92EB-69162E225FC7}" type="slidenum">
              <a:t>4</a:t>
            </a:fld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Apostles Return From </a:t>
            </a:r>
            <a:br>
              <a:rPr sz="4000"/>
            </a:b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Limited Commission</a:t>
            </a: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Mark 6:30-44; Matt.14:13-21; Luke 9:10-17; John 6:1-15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ed on what they had done and tau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rupted by large crowds - could not 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instructed the apostles to go to a quiet place and 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departed in a boat to Bethsaida on the eastern side of the Sea of Galil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7A6B-F8D6-4A77-BEB8-5019ABBBCD83}" type="slidenum">
              <a:t>5</a:t>
            </a:fld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H="1">
            <a:off x="6019920" y="990720"/>
            <a:ext cx="1828800" cy="533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CAE3-4E81-4E87-A9E1-11A214A1C8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CE77-E61F-4522-8970-D1F76C198C8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The First Retirement</a:t>
            </a:r>
            <a:br>
              <a:rPr sz="40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Mark 6:30-44; Matt. 14:13-21; Luke 9:10-17; John 6:1-15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tudes followed on foot and arrived before Jesus and the apost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had compassion on the multitude - they were like sheep without a shephe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spoke to them about the kingdom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healed the si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7D21-6F9E-47A4-B57D-3BED03CE79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Jesus Feeds the 5,000</a:t>
            </a:r>
            <a:br>
              <a:rPr sz="40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Mark 6:30-44; Matt. 14:13-21; Luke 9:10-17; John 6:1-15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ght time approaching - no place to eat or sle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ostles suggested that the crowd leave and seek food and shel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asked Philip, ”Where can we buy bread to feed them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knew what He was planning to do, but wanted to see how Philip would reac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A710-C7D7-4EE8-8E3A-4604465412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Jesus Feeds the 5,000 </a:t>
            </a:r>
            <a:br>
              <a:rPr sz="40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Mark 6:30-44; Matt. 14:13-21; Luke 9:10-17; John 6:1-15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lip responded:  200 denarii worth of bread is not sufficient for them (the denarius was equivalent to one day’s wag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rew told of a lad who had 5 barley loaves and 2 small f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said to tell the people to sit in groups of 50 and 100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2854-045A-43B3-9933-1DBBF80A2D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16:08:33Z</dcterms:created>
  <dc:creator>robert marshall</dc:creator>
  <dc:description/>
  <dc:language>en-US</dc:language>
  <cp:lastModifiedBy>Frank D Vines</cp:lastModifiedBy>
  <dcterms:modified xsi:type="dcterms:W3CDTF">2006-09-10T13:18:43Z</dcterms:modified>
  <cp:revision>12</cp:revision>
  <dc:subject/>
  <dc:title>Slide 1</dc:title>
</cp:coreProperties>
</file>